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is a tissue or organ of the human and animal body characterized by the ability to contract, usually in response to a stimulus from the nervous system.  The basic unit of all muscle is the myofibril, a minute, threadlike structure composed of complex proteins. Each muscle cell, or fiber, contains several myofibrils, which are composed of regularly arranged myofilaments of two types, thick and thin. Each thick myofilament contains several hundred molecules of the protein myosin. Thin filaments contain two strands of the protein actin. The myofibrils are made up of alternating rows of thick and thin myofilaments with their ends interleav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fibr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fila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colem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a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muscles in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asic unit of all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yofila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muscles diff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triated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an smooth muscle be f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ntractions of skeletal muscle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muscles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uscle is used in chewing f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calcium so important for muscle contrac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that encourages activity</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ne threadlike structur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ning or increase in tension of functioning muscl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consciously or intentionally</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ous sheath</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gh, nonvascular connective tissue present in certain tubular structure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ickness of material (one of several) over a surface or forming one division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umber of things fastened, tied or wrapped togethe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uscles of mastication; its action is to close the jaw</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largement of an organ or part due to the increase in size of the cells composing it</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ast Continuous or Simple Past Tense:</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open) three new hospitals in this region las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patient (try) to explain his symptoms, the doctor (listen) to him attenti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rse (submit) her report yesterday mo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eeks ago, many scientists (take) part in this important cong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epare) our exercises at a quarter to nine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rite) on the blackboard when the students (come)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e (enter) the room, she (notice) that her brother (read) a bo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be) in a very difficult position. He (not/know) what to do.</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egatives from the following words using the prefixes  UN-, DIS-, IM-, IR-, and IN-</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d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etrabl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func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ular dise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06T22:45:31Z</dcterms:modified>
  <cp:revision>25</cp:revision>
  <dc:subject/>
  <dc:title>Slide 1</dc:title>
</cp:coreProperties>
</file>